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37A4-A6FF-4AB6-893F-A290F3663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0B26-8457-4169-9147-BB014A00A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CFA12D-6ADD-456F-B33A-106044800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FCB38A-7650-4A1B-A81E-7F0E57FAA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5EA08C-DD05-45C2-BCAE-BB1317480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D445BD-10CC-4009-B2BB-5A4F6F40C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179B85-8D8D-43A5-86AA-49132F0E6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3EE798-2109-4147-8C1E-D0DEE39A3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5002ED-07A9-4444-A6EF-47ACD2423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10963F-EE1A-480C-ACFC-2CDFC3694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CFC776-81B1-4395-B275-E18BF2A38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6EABAF-2BE0-462E-BBB9-BD2BEEBCC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EDAD-6FD6-4C67-B89E-40ECDC712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7F9144-902C-4F9F-A28D-7297581D2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CA2AC3-B15F-4D25-BCCB-F13B28BCA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4BC4D2-F113-4FF3-8414-7B9530BD3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A04461-FA8E-4AE4-838B-9B1719B73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7D2A7C-024D-48F5-B8ED-0F41E69CA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9145D5-F427-4091-B88C-4680DA858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0422AF-698A-4CC8-BE4D-6D8DEE34F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DAAC6A-7C93-4637-BB07-62BDEDFFB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11A4BB-73DB-4F47-B35F-5AF6F0EEF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881734-F3F9-4B54-B155-B724BD721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5DD3-EF0E-4ABB-9413-C895F483D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B9D288-B91B-4BBB-9D34-1BFBC84B1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A71F8B-C360-4C1B-A574-E282769A6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07CBF4-956A-4EEA-A552-DBBEBC9AC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8EC483-70C4-4AAE-B64D-2AA533E5A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6D83EE-7C23-41C9-8D26-CC312A80A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1F6379-C28F-4F8A-8031-446F01365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1DB46A-1744-4EED-9BF0-38E1F6614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7B6028-FCD2-4B5F-9C6A-8B0150537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5F21BF-9E21-4410-BFE1-6BF14DD8A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670AEB-269F-4328-ABF2-C1719B2F9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FE3F8-A6F2-4AC9-A7BC-C7CE95AD6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BCE3C0-AA69-4F98-96E9-0E7196675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F87D76-54C8-4964-9C37-F9215574B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BB81DD-402C-450D-A110-96A8CFD90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5BA65F-3734-4EE7-B87D-25CA9EFBC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3545A8-FE07-4A98-B994-F7A45839D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7E4E1F-C209-4D05-B0F3-2EC37A35D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06D208-6A01-41FF-B663-1DA914597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3C978E-9986-42E3-8384-18C016C71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29F078-0794-41FD-873F-DE9B5BE6E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D88116-1EC5-4D26-939A-36A70AD0E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C7CE0-AE11-4BF4-BB0F-6318348CE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18EE70-B789-4522-8AD0-75F5BCA90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723DF9-7004-495B-878B-9319135C5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11F6E6-F729-462B-A60A-5C89BE033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32F492-D74D-4076-AF4F-030690945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E04682-FB33-4416-9ED2-8C45CD3F1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77D71-B6EC-4381-BB4B-08BA55B6C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ADAD2-88DA-47C7-BD09-056D4B43F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3F3D6-6D95-4CAF-9CF2-BE553FBC6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A7865-99FB-4C60-9CD8-7FB019195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7BA5A-15FA-4E57-BB28-A1B7FCBCF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7846-6496-4E52-93A0-D7C78E0E0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49E16-A436-4886-871D-8DF2E785C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B4E70-B415-46AD-A509-D57408D8F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49F89-15C8-4C96-8884-2CC3153B9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15418-B28D-4FC3-8D60-8DD6C2156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16495-A246-48AA-899C-4764F9182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80D00F-A14B-48A1-B72E-0BE3CAC3D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E5516E-D020-4700-95D4-95C38AB59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D836C4-A541-46FE-B41C-A1E269350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8221F6-41BC-4981-92BF-04A343200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A41290-C804-4651-810B-CC6D0CC68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8936-ADC5-40AA-BF46-1066B14B2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9AF3A5-A517-4FD1-B215-844386403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145E9E-4BCE-4AA4-8DF3-4657F46E7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EB0AED-7B06-4A28-B1B1-D678E6422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9AA528-04A6-44F7-81A6-C879C0EE6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0D81D6-94D4-4931-AF6C-39A62B4B7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C623D4-6FDA-4510-BCF3-7F8689369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20EFCB-30AA-4FEF-B890-6CC9FA4D4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34FE79-5288-434C-ACFC-796E6D553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23AE43-10EF-4463-96EB-ECC8D31DE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6BD9A9-D358-4B22-9A52-0E14841F0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1DEF-78EE-4D39-95E3-DA27E8BA1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32582A-AD62-4D96-878E-22330897A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0B1E54-50C7-4175-8809-324F0381B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15386C-E8B4-4D87-8E75-689414601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4702BE-D289-4A74-8369-BCDA30C4C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C8D759-F78B-4AED-903A-B7FDD43D9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975EB6-5F78-493C-A7AF-791AC06FC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5937CB-6560-4F00-B08D-7DA4943C8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CC4782-896C-4DE0-9FB2-E98E561E2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A61E41-B9BB-4364-8541-BC9292964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4E1FF1-F4A3-443F-BAEA-D0BA970C8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63EC-B39E-4832-8F63-B522379A7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C9343B-0104-4DFC-9677-7F70D620A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24930A-B1EF-491E-B820-7B68BEDD2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FA0158-8B29-435C-8D58-CE8E46207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C76B67-30BF-4F5A-8937-409CCECDF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928B4C-A224-4324-BB59-F931A8176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A4151F-2994-4019-BC70-3B3E18230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10B75B-9A33-450D-B368-D605B0868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7CCE47-C6D1-4AA3-8D2C-EECA3B26A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4527FB-781E-4668-9D88-BF7252AEB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0A3845-70DD-4EEB-A917-05DA4860A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3B1F-EF6B-483B-96A1-FF0E51E89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A0A679-25AD-4B1D-973B-909C03784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A0978D-AC53-4EA7-B953-8F1126FC7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CFB24A-2595-4E2D-9CD1-7822E5773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48AE90-E69B-40E6-8828-9E1DD927F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42185E-2451-4A6F-BFB4-5F71F4135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2EA281-5A3B-430C-A162-8A00D3DDE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D09524-3FBF-49A7-B1D3-8889007AC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92227A-FFC0-471E-862B-CCE06030B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27F9FE-DC7A-49D9-A7B5-7C4144806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4FE07F-25F0-4BD1-91B4-FE7F0D50C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81A5-2AEC-4764-9CEC-1FFE41C63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755DFA-0947-4751-B9C0-BAC4F9BA8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C229AA-AFBB-421E-9DE0-A84E54512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F79A6D-8511-4CF7-88E8-4ECDBE332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F6F171-E470-4B2D-93F9-548CFDD34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792349-BACA-4517-800C-E5B6531CF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F67144-E0F9-4A57-9636-161D697DA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C33E7C-654D-44B2-8463-6B5849D36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C9B249-B01E-4985-816A-3C430607B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171CC8-1DCD-4834-9CDA-164B9C9B3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7C774F-9248-4F06-9296-355928133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8E4C-BE99-46F9-8B7E-6DF8204D1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A6616B-AB4B-4FAB-BFAC-8F51D401A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5656A2-538E-4BF8-B531-4CE1A0316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0371DD-424F-45C9-9DF3-1FDBF9FE3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6CFEF3-764A-473B-B002-A2981556D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4C3C44-1986-419D-86F1-CE8BBC71C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188D5A-ECA9-4C09-8720-CEEFD5F91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3B85D5-2DAF-47B9-81CB-9BDF21AC5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63AFD6-EE1B-4767-A37E-7D4F76582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91329F-3163-4B22-B79A-7734E6EB6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F7D9E2-9DD5-41A9-90D5-4CC3338FF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895F-058D-4E29-823B-9C0695BB4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AA7BBB-00E2-4A01-A9BB-B14000DCF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0A5377-B51C-4008-A990-AB0BA24AE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2682F3-61F5-4E7E-8896-9766EA61E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295431-F8B0-440F-B2DA-DABCB5AF1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1E44D7-0056-4218-B9A8-A17539914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F2AACA-E909-4A9D-8799-E75CCE2A5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B68EC7-99DC-42CE-B9F7-9E25CBB98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74E26A-C7B2-4E5C-BC1D-79D8E190C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BD4634-B9D0-4CE4-B50E-3C4B6CC5A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D7DC48-C090-4A85-98A6-307174B66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2FB57-2E3F-47D0-81D2-38DB5CE767E4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6F83C-197C-4B97-931B-EB5EC3FFEA86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C88C1-D09E-49C9-986E-884E9C858F77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traight Connector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l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71031-B64B-460A-9147-B5A8CADFDAD2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C5977-8C1A-415E-A703-E3E50FA89371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4E293-A77F-4B7A-9678-645B928E91EC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B5EAD-F334-4437-8B38-83E89664B988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53B18-3DAA-4208-8E54-8740FB04BF88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137A7-8FB8-427C-B692-625AAC70721A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C6ED4-54BC-4E79-90CB-40FDE3286EBF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268C2-35F0-4C61-8410-35E80A6B186F}" type="slidenum">
              <a:rPr b="0" lang="en-US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traight Connector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C111E-3B72-436F-8173-1BFCE7EB14D0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mustangevolution.com/mustang-pictures/cat69/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371600" y="4876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Bright"/>
              </a:rPr>
              <a:t>Modèle à suivre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eorgia"/>
              </a:rPr>
              <a:t>Mustang 1968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08" name="Picture 2" descr="http://images.google.ca/url?source=imgres&amp;ct=img&amp;q=http://mustangattitude.com/mustang/1968/1968_00143_01.jpg&amp;usg=AFQjCNERojUSml8UuSD2gw3FppuLkBgPYg"/>
          <p:cNvPicPr/>
          <p:nvPr/>
        </p:nvPicPr>
        <p:blipFill>
          <a:blip r:embed="rId1"/>
          <a:stretch/>
        </p:blipFill>
        <p:spPr>
          <a:xfrm>
            <a:off x="2362320" y="1828800"/>
            <a:ext cx="4267080" cy="27306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La vitess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228240" y="14479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Le Mustang 1968 est le premier modèle de moteur V6. Aujourd’hui, en 2010, les autos mustangs ont un moteur V8. La vitesse peut aller plus que 200 kilomètres à l’heure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1" name="Picture 2" descr="http://images.google.ca/url?source=imgres&amp;ct=img&amp;q=http://c2.api.ning.com/files/zXiKii5t5ttfWeLqIFC2Yo41y*ORZ3ejw2EQVvem2WKqHC3cF3-l4dL5ZzmXPBh7TYHLeLgb5YSwMNT1K20DWnZ2fPnrFMpE/mustang_logo.jpg&amp;usg=AFQjCNG1j1Mz4ZiVTlttJrAUB9fPKYjZGw"/>
          <p:cNvPicPr/>
          <p:nvPr/>
        </p:nvPicPr>
        <p:blipFill>
          <a:blip r:embed="rId1"/>
          <a:stretch/>
        </p:blipFill>
        <p:spPr>
          <a:xfrm>
            <a:off x="4191120" y="3886200"/>
            <a:ext cx="36576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L’efficacité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700" spc="-1" strike="noStrike">
                <a:solidFill>
                  <a:srgbClr val="000000"/>
                </a:solidFill>
                <a:latin typeface="Georgia"/>
              </a:rPr>
              <a:t>        </a:t>
            </a:r>
            <a:r>
              <a:rPr b="0" lang="fr-CA" sz="2700" spc="-1" strike="noStrike">
                <a:solidFill>
                  <a:srgbClr val="000000"/>
                </a:solidFill>
                <a:latin typeface="Georgia"/>
              </a:rPr>
              <a:t>Le Mustang 1968 fonctionne très bien pendant l’été.  L’hiver il est trop proche du sol alors c’est difficile à conduire.   Cette auto prend beaucoup d’essence alors ça coûte beaucoup d’argent. 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4" name="Picture 5" descr="2009 Ford Musta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00200" y="3809880"/>
            <a:ext cx="3807000" cy="24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La Puissance du Moteur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33444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La puissance du moteur est V6 (6 cylindres) et 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120 puissance, cheval vapeur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V6 1968                                          V8 2010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7" name="Picture 8" descr="2004%204"/>
          <p:cNvPicPr/>
          <p:nvPr/>
        </p:nvPicPr>
        <p:blipFill>
          <a:blip r:embed="rId1"/>
          <a:stretch/>
        </p:blipFill>
        <p:spPr>
          <a:xfrm>
            <a:off x="685800" y="3200400"/>
            <a:ext cx="3581280" cy="2679840"/>
          </a:xfrm>
          <a:prstGeom prst="rect">
            <a:avLst/>
          </a:prstGeom>
          <a:ln w="0">
            <a:noFill/>
          </a:ln>
        </p:spPr>
      </p:pic>
      <p:pic>
        <p:nvPicPr>
          <p:cNvPr id="618" name="Picture 10" descr="2010-ford-mustang-gt-i2"/>
          <p:cNvPicPr/>
          <p:nvPr/>
        </p:nvPicPr>
        <p:blipFill>
          <a:blip r:embed="rId2"/>
          <a:stretch/>
        </p:blipFill>
        <p:spPr>
          <a:xfrm>
            <a:off x="5181480" y="3200400"/>
            <a:ext cx="3197520" cy="27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Les Qualités Esthétique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20" name="Picture 8" descr="mustang interior 1968"/>
          <p:cNvPicPr/>
          <p:nvPr/>
        </p:nvPicPr>
        <p:blipFill>
          <a:blip r:embed="rId1"/>
          <a:stretch/>
        </p:blipFill>
        <p:spPr>
          <a:xfrm>
            <a:off x="380880" y="1447920"/>
            <a:ext cx="4800600" cy="3600360"/>
          </a:xfrm>
          <a:prstGeom prst="rect">
            <a:avLst/>
          </a:prstGeom>
          <a:ln w="0">
            <a:noFill/>
          </a:ln>
        </p:spPr>
      </p:pic>
      <p:sp>
        <p:nvSpPr>
          <p:cNvPr id="621" name="TextBox 9"/>
          <p:cNvSpPr/>
          <p:nvPr/>
        </p:nvSpPr>
        <p:spPr>
          <a:xfrm>
            <a:off x="5638680" y="2057400"/>
            <a:ext cx="33530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Le Mustang 1968 était trè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chic.  L’intérieur avait des sièges en cuir rouge.  Il avait aussi un toit ouvrant.  Il y avait aussi un radio AM avec des hauts parleurs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L’air climatisé était aussi offert dans ce modèle pour la première fois.  Le siège arrière se pliait auss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8T14:21:19Z</dcterms:created>
  <dc:creator>alexandra.craik</dc:creator>
  <dc:description/>
  <dc:language>en-US</dc:language>
  <cp:lastModifiedBy>ED18</cp:lastModifiedBy>
  <dcterms:modified xsi:type="dcterms:W3CDTF">2011-10-11T12:45:10Z</dcterms:modified>
  <cp:revision>22</cp:revision>
  <dc:subject/>
  <dc:title>Mustang 68</dc:title>
</cp:coreProperties>
</file>